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462B0-EB38-4021-9DAC-A18BD8C70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EC359-05C6-40FA-A4E9-2F3E2CFE9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FBE9-E17E-4F3C-98CE-B9D0FC80C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8F914-3B19-41BB-95EB-7C8678D6FC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3F515-0522-403F-9020-6CC14300E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B5C37-F545-4442-AC0E-AAB13E4A6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C656C-D5C8-4A04-835B-7B7205D72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62213-B283-4864-8E87-FF1EB55511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5F223-B9BE-4F4B-B800-4C01566399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98F60-F93D-4481-88A6-9C41A96059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366E7-2D4F-4F60-9D27-72B016630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A4AE9-D8EA-45B3-B29F-7BE6619C9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3218B7FE-FD92-44CA-B851-BC16B69A66C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81952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logo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Agenda SPM-Jour Fix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92160" y="1371600"/>
            <a:ext cx="7712280" cy="40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sprache change request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5 mi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urchsprache Projekt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eopar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er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lysse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-Cit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nelo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ri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s / Organisatorisches / Action Item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9436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1143000"/>
            <a:ext cx="281952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4160" y="1143000"/>
            <a:ext cx="2819160" cy="502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ogress N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16000" y="1346040"/>
          <a:ext cx="8458200" cy="6756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346040"/>
                    <a:ext cx="8458200" cy="675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0"/>
            <a:ext cx="7391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isks and Action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0280" y="257040"/>
            <a:ext cx="327240" cy="6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10360" y="317520"/>
            <a:ext cx="130320" cy="1238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10360" y="522360"/>
            <a:ext cx="130320" cy="122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10360" y="725400"/>
            <a:ext cx="130320" cy="123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28600" y="1143000"/>
          <a:ext cx="8432640" cy="506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143000"/>
                    <a:ext cx="843264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0:16:27Z</dcterms:created>
  <dc:creator>MDamms</dc:creator>
  <dc:description/>
  <dc:language>en-US</dc:language>
  <cp:lastModifiedBy>Siemens-Mitarbeiter</cp:lastModifiedBy>
  <cp:lastPrinted>2003-07-02T13:24:00Z</cp:lastPrinted>
  <dcterms:modified xsi:type="dcterms:W3CDTF">2003-09-24T09:07:08Z</dcterms:modified>
  <cp:revision>77</cp:revision>
  <dc:subject/>
  <dc:title>No Slide Title</dc:title>
</cp:coreProperties>
</file>